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F65D-372B-4F8A-BABC-22B2FEA32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46FA-9878-40B9-8B8E-96A3F54E6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C50F-6BB7-42C2-BD0C-59ACEF71C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964B-6D5F-47FE-813C-850EA4E3B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267C-15DB-4ED6-860B-F4F7A168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D966-389C-4E59-B80E-2E2EAE94C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B51C-19AC-4C34-AFD8-05C3FA647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55BC-E602-4B7F-93A5-A971CEEF0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6842-EF09-45F4-B10F-135AB55A7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3E84-9ED7-4B9B-83EC-EF188D04D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5CB8-D069-40F2-A55E-C91C93B86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BD5-2A33-4814-92CB-9215EEAF7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BED6-E868-433F-AA1F-305B51FC6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2F9-1902-490E-A73D-651AC284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962-E487-47DB-9DE2-F7A8E212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7EB-D671-4932-A270-FEF76C23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035-006F-48DD-BE93-83E4B216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229-AFF7-47B1-B24D-0483CB2A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3E7-140E-4032-A5B1-F18FA609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716-05BF-423E-B8FA-BF5717A0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8D1-0192-4C25-9406-A885E542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438-6B5C-4D09-9F98-2A9952EE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745-3311-4DDD-AC1D-8F712116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6BE-77CF-47E9-B69E-931C4F90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449-451C-45A4-B55B-61FDAAF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E41E-EF08-491D-84F7-88AC21E8F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JackOLantern"/>
          <p:cNvPicPr/>
          <p:nvPr/>
        </p:nvPicPr>
        <p:blipFill>
          <a:blip r:embed="rId1"/>
          <a:stretch/>
        </p:blipFill>
        <p:spPr>
          <a:xfrm>
            <a:off x="-1219320" y="-228600"/>
            <a:ext cx="11582640" cy="8686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mpkin Carving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will it look like when your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  Is anyone excluded or disadvantaged by this method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rcRect l="3544" t="1353" r="5262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will it look like when your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How will you give them a chance to demonstrate their achievement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distinguish different levels of achievement and give feedback? (Scoring Gu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rcRect l="3544" t="1353" r="5262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52280" y="2016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important outcomes for your graduates?  Create 1 or 2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arning Targe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ill it look like when your graduates have achieved these outcomes? 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vid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will you give them a chance to demonstrate their achievement? 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sess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will you distinguish different levels of achievement and give feedback?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coring Gui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rcRect l="3544" t="1353" r="5262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51560" y="201600"/>
            <a:ext cx="32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ster Eg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25000" y="201600"/>
            <a:ext cx="57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ter Egg 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990720"/>
            <a:ext cx="7772400" cy="4647960"/>
          </a:xfrm>
          <a:prstGeom prst="rect">
            <a:avLst/>
          </a:prstGeom>
          <a:solidFill>
            <a:srgbClr val="cccc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important outcomes for your graduates?  Create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ill it look like when your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will you give them a chance to demonstrate their achievement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will you distinguish different levels of achievement and give feedback? (Scoring Gu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743200" y="513072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important outcomes for your graduates?  Create 1 or 2 of these and classify them as facts, concepts, skills or dispositions.  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. 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ill it look like when your graduates have achieved these outcomes?  Describe the behaviors that would tell you that the target has been met.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will it look like when your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  Is anyone excluded or disadvantaged by this method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will it look like when your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How will you give them a chance to demonstrate their achievement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distinguish different levels of achievement and give feedback? (Scoring Gu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important outcomes for your graduates?  Create 1 or 2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Learning Targe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ill it look like when your graduates have achieved these outcomes? 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vid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 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ssess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distinguish different levels of achievement and give feedback?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coring Gui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rcRect l="3544" t="1352" r="5261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rcRect l="3544" t="1353" r="5262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important outcomes for your graduates?  Create 1 or 2 of these and classify them as facts, concepts, skills or dispositions.  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. 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ill it look like when your graduates have achieved these outcomes?  Describe the behaviors that would tell you that the target has been met.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rcRect l="3544" t="1353" r="5262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15:51:48Z</dcterms:created>
  <dc:creator>Mark Roddy</dc:creator>
  <dc:description/>
  <dc:language>en-US</dc:language>
  <cp:lastModifiedBy>Roddy, Mark</cp:lastModifiedBy>
  <dcterms:modified xsi:type="dcterms:W3CDTF">2017-09-25T22:52:35Z</dcterms:modified>
  <cp:revision>17</cp:revision>
  <dc:subject/>
  <dc:title>PowerPoint Presentation</dc:title>
</cp:coreProperties>
</file>